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2B06-920A-409F-867C-3891DD6EFA20}" type="slidenum">
              <a:rPr b="0" lang="en-S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C638-9430-4126-8CED-7D659901BEC1}" type="slidenum">
              <a:rPr b="0" lang="en-S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02C6-E97D-469D-9B6C-1374CB77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3C83-8E5C-4070-B9AD-55F99050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01F5-81D3-4FA5-A132-F5C1BD95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2E0-742B-422E-86E7-7D2365E4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18F0-D91F-466D-B5A5-73B7E2D7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A1DF-CD33-4442-AEDF-868AFD74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091E-FAF9-4660-8F5D-11CDF6A8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BE23-E919-4200-B9BB-FE7C5ACA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56D9-7A8C-419D-AFFF-061B30FC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4CAE-0E40-4719-BB17-C0004A28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8F0F-3724-458D-88E3-0C9D67D7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B57D-5EF8-4654-B9F4-06B22E73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96D1-7A36-4439-81A8-F658F43F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E784-96AF-455C-86E6-58961D79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8BCC-3878-46CA-BF03-67F2A1FD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1FB0-B011-42C3-B4B1-A6178D15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20BE-20AC-4050-820B-F11C3BC3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A32ED-0665-4755-A085-5BD3A0AF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DDB31-D9B9-4F82-B92B-A8FF86BB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4F1F3-7E9A-4BC4-9D43-02F6D37C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0C0BA-FDDC-4C80-BCF0-15BFD11B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614A9-8E67-49AF-A467-E9FDEB9A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D16C-59FA-45F6-B776-04A456D6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4C85A-5A24-4A6D-B3A0-6B6094FF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3D231-BB3B-4067-ADAC-001BA299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FF577-BD60-4079-AEE8-76BC389B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2E4F3-ACBB-46D7-957F-3BB9399B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111A2-E1FE-45E1-9963-553B58E0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A10D3-AAA9-4211-93EE-FB41E189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E3AE6-4647-4102-9D19-E12C6AFD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64984-CC79-496C-8A63-6F9ED13C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1AF8E-1875-4A48-8250-B43800D1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ABF22-6158-4BE5-89D6-D06E3CD1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A852-8AC6-4728-9EDC-C14D3FB9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99E1D-879F-4F23-AA4E-C31DC0AC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1092E-63E9-4AC4-B464-587DBC5C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C20D8-CFDC-4ADD-A1B4-4A38DDDB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4B13F-5C85-4C1D-A5CE-A260C670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BA6BB-36ED-4EC1-8B87-E568B5A2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EF800-D334-4224-BA4D-46489DFA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BDDD6-1533-4D51-AACC-A56A97ED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9232D-4DF2-49E2-AEBA-86814B7C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58A59-C31E-4589-9109-2988F39D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8069-6435-4D39-883E-02D3E6FE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039E-7A77-43F1-A486-585AB4EF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EAF8-334D-4B3D-A6D2-D31A01C2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5AD-0837-4CD7-AC29-497B6061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BF9-C623-487A-8F65-73BA7C19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7317-50CF-4EF2-A9C5-5D8C4437B625}" type="slidenum">
              <a:rPr b="0" lang="en-S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1A56-FD9F-4065-807A-45B79DB5DF43}" type="slidenum">
              <a:rPr b="0" lang="en-SG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912B-74C8-406D-930D-8EDA520DB59C}" type="slidenum">
              <a:rPr b="0" lang="en-SG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5ABF-18BE-41E5-91D9-E1C9DB6CB1C4}" type="slidenum">
              <a:rPr b="0" lang="en-SG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ccc.gov.sg/Households/es_guide.sht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ccc.gov.sg/Households/es_guide.s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706320" y="1384200"/>
            <a:ext cx="7864560" cy="201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d0d0d"/>
                </a:solidFill>
                <a:latin typeface="Calibri"/>
              </a:rPr>
              <a:t>My IRS question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1000080" y="1714680"/>
            <a:ext cx="7572600" cy="1267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8f1fc"/>
                </a:solidFill>
                <a:latin typeface="Comic Sans MS"/>
              </a:rPr>
              <a:t>How many people in my class use more electricity than they/their families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ypothe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y people use more electricity than needed. (e.g. not turning off the light/ television when not in use, wasting air-conditioner by opening the door and keeping it open when not in the ro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4617b"/>
                </a:solidFill>
                <a:latin typeface="Calibri"/>
              </a:rPr>
              <a:t>Background Research: Amount of electricity used by electrical appliances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nccc.gov.sg/Households/es_guide.sht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ives good electricity-related inform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thod(s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rve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fer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nccc.gov.sg/Households/es_guide.sht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6:52:50Z</dcterms:created>
  <dc:creator>nicholas</dc:creator>
  <dc:description/>
  <dc:language>en-US</dc:language>
  <cp:lastModifiedBy>nicholas</cp:lastModifiedBy>
  <dcterms:modified xsi:type="dcterms:W3CDTF">2010-04-13T08:44:34Z</dcterms:modified>
  <cp:revision>41</cp:revision>
  <dc:subject/>
  <dc:title>Slide 1</dc:title>
</cp:coreProperties>
</file>